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37081"/>
        <c:axId val="95938969"/>
      </c:barChart>
      <c:catAx>
        <c:axId val="51237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38969"/>
        <c:crosses val="autoZero"/>
        <c:auto val="1"/>
        <c:lblAlgn val="ctr"/>
        <c:lblOffset val="100"/>
        <c:noMultiLvlLbl val="0"/>
      </c:catAx>
      <c:valAx>
        <c:axId val="95938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37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645-F611-400E-A3BA-2C3F6CB0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FD1-C2A8-40EC-B16A-93E04C85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8CD2-F306-475E-9640-31C66C85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880-A66F-4315-B0D7-18D379CC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B0EE-4D2A-4EA9-8F68-313F6815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DB6-2350-45CC-B5B6-9A4E1719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0149-A247-4228-A54F-1B973DB4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24FD-A7BF-4154-97BE-32016F85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CCE-D457-4C82-BC71-CE05BE92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ABE-5F7E-455F-B587-DBC4A159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2D1A-8C39-4408-B490-B830FF60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16A-49E2-4A51-B764-7E910887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E4AC97-A510-4CF7-8564-F5BE4351ED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