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75036"/>
        <c:axId val="89923407"/>
      </c:barChart>
      <c:catAx>
        <c:axId val="769750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23407"/>
        <c:crosses val="autoZero"/>
        <c:auto val="1"/>
        <c:lblAlgn val="ctr"/>
        <c:lblOffset val="100"/>
        <c:noMultiLvlLbl val="0"/>
      </c:catAx>
      <c:valAx>
        <c:axId val="89923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750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3F0B-4A1E-4F1E-8AB5-BEB2CAB1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CE30-F517-4C5F-9E54-675D2708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299-853B-4E30-B7AF-E16D2717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6DD6-F2B9-46C6-BE7A-B9DFDB6A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6F39-FF38-4DF0-8445-D40F3838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E91-08C7-43AF-97A1-984F8E51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4BF-45D7-4206-917E-9C80472C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DB00-476C-4C13-8C02-61C3E2CE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4CF-6C2A-4948-BC1C-4206266E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6BB-B905-40B2-B50B-158FAA4C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7A6-87D7-4894-BA12-E7F8A257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DE17-5578-47DF-B094-BE40D874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C1808-8843-4847-BD22-047DC4E2BB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