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631152"/>
        <c:axId val="65544823"/>
      </c:barChart>
      <c:catAx>
        <c:axId val="676311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44823"/>
        <c:crosses val="autoZero"/>
        <c:auto val="1"/>
        <c:lblAlgn val="ctr"/>
        <c:lblOffset val="100"/>
        <c:noMultiLvlLbl val="0"/>
      </c:catAx>
      <c:valAx>
        <c:axId val="65544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311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787-BF41-40FC-9EBA-3335CC77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0661-7C21-447E-A15A-33950A3C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C2E-7362-42F0-A2FE-49322974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29A-EFFF-4036-9608-9E1857CC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B2F-2DA3-4845-A42C-C52C3423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C72-ED8C-4456-A5A5-983A6835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27F-2F1F-4A85-87F8-B919023D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62B-76B5-48F2-B2D5-6C348BCE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741-C011-487D-8E77-BC534976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211-B84A-4851-B1DC-24EB2E98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A0FF-B77B-4C6D-9DF2-20C24FEF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D0C6-D537-4253-B70F-75DB0119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08F77-2F40-4F10-8E04-7BD9E06EF0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