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62006"/>
        <c:axId val="64324507"/>
      </c:barChart>
      <c:catAx>
        <c:axId val="43962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24507"/>
        <c:crosses val="autoZero"/>
        <c:auto val="1"/>
        <c:lblAlgn val="ctr"/>
        <c:lblOffset val="100"/>
        <c:noMultiLvlLbl val="0"/>
      </c:catAx>
      <c:valAx>
        <c:axId val="64324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62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B31-66DD-4E5D-9223-16E6D471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E56-1B6B-4832-800A-03CBFB48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20E-B15D-4C5D-80A4-421C26D2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F00-DA22-4363-AC76-FD306242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F4E-EAEB-4E58-A614-1E8E8374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64F-E20E-4FA7-87AF-FB307B01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A61-0AFE-463E-A95B-EAFA43C9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0A8-48DF-4B6D-B8F7-E6C1B7E3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228-B221-4CC9-B82C-58AB2D70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EC2-A239-4536-A650-CF576C31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70D-1066-4787-86DC-F2D736BF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A19-DF2A-45D7-991D-27B6DE12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C9DC9-D7E7-4FC7-91E8-F6EEC745E0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