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712"/>
        <c:axId val="52125500"/>
      </c:barChart>
      <c:catAx>
        <c:axId val="5741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5500"/>
        <c:crosses val="autoZero"/>
        <c:auto val="1"/>
        <c:lblAlgn val="ctr"/>
        <c:lblOffset val="100"/>
        <c:noMultiLvlLbl val="0"/>
      </c:catAx>
      <c:valAx>
        <c:axId val="52125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691-59F5-4FEA-B49D-A68F0514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2F7-2209-41F1-9127-C8E7779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529-0827-49E3-BFE1-EE960FDE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79E-30A8-4963-89D3-C866141D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285-59C9-4FD7-AB47-EA87167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7D8-0282-47F0-A5E0-61AE517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183-43F5-402F-8467-018F153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127-6EDB-4DA8-8307-AC6560C0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FBB-603F-4BE2-B1FD-A4FACFA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31F-B002-4186-A4F9-4C6697E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8AE-FEB0-4D21-98A1-CFD41A5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FD7-2D65-4178-8F16-4BBC4E4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C163-251A-4A04-AA9B-8A282C210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