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61986"/>
        <c:axId val="50745441"/>
      </c:barChart>
      <c:catAx>
        <c:axId val="57561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5441"/>
        <c:crosses val="autoZero"/>
        <c:auto val="1"/>
        <c:lblAlgn val="ctr"/>
        <c:lblOffset val="100"/>
        <c:noMultiLvlLbl val="0"/>
      </c:catAx>
      <c:valAx>
        <c:axId val="50745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61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BF1-43C3-4AAD-A187-DB43130E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FB8-21D2-4514-A193-2D5D8FD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15F-2ED5-48B3-868A-9A0583F1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4CA-2D41-4C74-815C-4F91D8A0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5FF-8913-4BE2-8921-9D1BE1DD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B6C-0557-40E9-B6E2-42B31AA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EC9-080A-4428-A6C1-C6D2631B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E80-F71F-4C8F-9CB1-7300D34B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61A-28AA-4381-8299-25A2A88E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450-DBA0-4F88-85B5-DB1C476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4DB-CEA8-4686-9E5B-FF45FA54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683-5226-479D-8AA0-E557182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FAE8-55E0-44BA-AE3A-254907588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