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054155-AD8F-4615-B523-9BC62A4970C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95FCBC-5D25-413E-9CFE-235BB237A7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21CFB7-9C85-4168-A288-A640BED43D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C7EC0F-6D76-4D80-9454-BBA760DA497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9AAF27-A961-40D3-8907-F2210B40805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52A5A0-7B4D-425E-BA83-2A278D9478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D38FCB-248E-4BD5-A7A6-CBA7C63E258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ACB770-3ED6-49DF-A9BA-99BFB4E0C2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C36DEB-F473-4AEF-8A5E-305AF1926A6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CBBDA9-F307-4DA7-A78D-F3309F979F5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6A7146-099B-4F1C-9456-8A6029E869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1D65DA-495F-40DD-94F5-80BE7D5221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8A751-9F1A-416E-96AC-88412D6C13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496880" y="2239920"/>
            <a:ext cx="312840" cy="495360"/>
            <a:chOff x="1496880" y="2239920"/>
            <a:chExt cx="312840" cy="495360"/>
          </a:xfrm>
        </p:grpSpPr>
        <p:sp>
          <p:nvSpPr>
            <p:cNvPr id="41" name=""/>
            <p:cNvSpPr/>
            <p:nvPr/>
          </p:nvSpPr>
          <p:spPr>
            <a:xfrm>
              <a:off x="1575000" y="22399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1653120" y="23814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535400" y="25938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653120" y="25938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496880" y="24876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2136600" y="21733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174760" y="2260440"/>
            <a:ext cx="10638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959280" y="223992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197240" y="2400480"/>
            <a:ext cx="295560" cy="587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V="1">
            <a:off x="3260880" y="2550960"/>
            <a:ext cx="65088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136600" y="285264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449440" y="2803680"/>
            <a:ext cx="66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43200" y="2421000"/>
            <a:ext cx="24912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897360" y="2011320"/>
            <a:ext cx="649080" cy="10666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191120" y="292572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7560" y="208764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78200" y="185904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6880" y="2773440"/>
            <a:ext cx="1295640" cy="304560"/>
          </a:xfrm>
          <a:custGeom>
            <a:avLst/>
            <a:gdLst>
              <a:gd name="textAreaLeft" fmla="*/ 202320 w 1295640"/>
              <a:gd name="textAreaRight" fmla="*/ 1134000 w 129564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249880" y="2697120"/>
            <a:ext cx="312840" cy="495360"/>
            <a:chOff x="5249880" y="2697120"/>
            <a:chExt cx="312840" cy="495360"/>
          </a:xfrm>
        </p:grpSpPr>
        <p:sp>
          <p:nvSpPr>
            <p:cNvPr id="60" name=""/>
            <p:cNvSpPr/>
            <p:nvPr/>
          </p:nvSpPr>
          <p:spPr>
            <a:xfrm>
              <a:off x="5328000" y="26971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406120" y="28386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 flipH="1">
              <a:off x="5288400" y="30510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406120" y="30510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249880" y="29448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4572000" y="350820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6095880" y="24112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121440" y="254808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423120" y="3041640"/>
            <a:ext cx="63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091200" y="3103560"/>
            <a:ext cx="11257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Document"/>
          <p:cNvSpPr/>
          <p:nvPr/>
        </p:nvSpPr>
        <p:spPr>
          <a:xfrm>
            <a:off x="6149880" y="15987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108840" y="170028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Document"/>
          <p:cNvSpPr/>
          <p:nvPr/>
        </p:nvSpPr>
        <p:spPr>
          <a:xfrm>
            <a:off x="6777000" y="159876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724800" y="1700280"/>
            <a:ext cx="572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Document"/>
          <p:cNvSpPr/>
          <p:nvPr/>
        </p:nvSpPr>
        <p:spPr>
          <a:xfrm>
            <a:off x="8015400" y="3630600"/>
            <a:ext cx="4633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961400" y="363060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6831000" y="3757680"/>
            <a:ext cx="312840" cy="501480"/>
            <a:chOff x="6831000" y="3757680"/>
            <a:chExt cx="312840" cy="501480"/>
          </a:xfrm>
        </p:grpSpPr>
        <p:sp>
          <p:nvSpPr>
            <p:cNvPr id="77" name=""/>
            <p:cNvSpPr/>
            <p:nvPr/>
          </p:nvSpPr>
          <p:spPr>
            <a:xfrm>
              <a:off x="6909120" y="37576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987240" y="39009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>
              <a:off x="6869520" y="41158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87240" y="41158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831000" y="400824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 flipV="1">
            <a:off x="5562720" y="2894040"/>
            <a:ext cx="520560" cy="6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267080" y="2316240"/>
            <a:ext cx="1828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6477120" y="2080800"/>
            <a:ext cx="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6934320" y="2106720"/>
            <a:ext cx="1522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188120" y="3255840"/>
            <a:ext cx="812880" cy="47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7110000" y="3909960"/>
            <a:ext cx="927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86400" y="463716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24560" y="483696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394320" y="5292720"/>
            <a:ext cx="1125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11840" y="5268960"/>
            <a:ext cx="74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148520" y="4075200"/>
            <a:ext cx="0" cy="546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495680" y="2697120"/>
            <a:ext cx="787680" cy="196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4915080" y="2989080"/>
            <a:ext cx="30456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7848720" y="2563920"/>
            <a:ext cx="293400" cy="5871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8026560" y="2641680"/>
            <a:ext cx="68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7238880" y="27925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886200" y="38098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public ke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5410080" y="32130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28600" y="252576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Document"/>
          <p:cNvSpPr/>
          <p:nvPr/>
        </p:nvSpPr>
        <p:spPr>
          <a:xfrm>
            <a:off x="5170320" y="3840120"/>
            <a:ext cx="56376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118120" y="387360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85800" y="62388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ergency ZSK Roll-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603840" y="57276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59Z</dcterms:modified>
  <cp:revision>154</cp:revision>
  <dc:subject/>
  <dc:title>Slide 1</dc:title>
</cp:coreProperties>
</file>