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68295"/>
        <c:axId val="82019932"/>
      </c:barChart>
      <c:catAx>
        <c:axId val="64682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19932"/>
        <c:crosses val="autoZero"/>
        <c:auto val="1"/>
        <c:lblAlgn val="ctr"/>
        <c:lblOffset val="100"/>
        <c:noMultiLvlLbl val="0"/>
      </c:catAx>
      <c:valAx>
        <c:axId val="820199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82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DB5F-F422-4EC8-9620-9D654DA4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BF8D-E4EE-47AF-93C8-69C4AE9A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28B3-0B03-499D-8BDA-90B99656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C1CD-F185-4BE4-9D15-6E11FE72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7AD-7076-4B39-885D-6AE9A3CB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DED1-D86C-461D-9EDA-3CA5F6A8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9FE7-30B0-446C-A6A7-96F9C829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56C9-825C-49A1-AAD1-1665CECD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8399-75E5-4ED6-8B41-04977449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997-858B-435C-9E47-D5B0BEAE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0086-3A74-47CA-B4C0-67A1BBC4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EEF9-CD84-4A32-AE8A-CC675992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ECB57-2654-41DF-A207-C6844E16A8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