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75033"/>
        <c:axId val="15867755"/>
      </c:barChart>
      <c:catAx>
        <c:axId val="71775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67755"/>
        <c:crosses val="autoZero"/>
        <c:auto val="1"/>
        <c:lblAlgn val="ctr"/>
        <c:lblOffset val="100"/>
        <c:noMultiLvlLbl val="0"/>
      </c:catAx>
      <c:valAx>
        <c:axId val="15867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75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E87-9844-4805-8671-694A677B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D51-26DC-4414-8851-5A7EDFF4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870-B775-4461-B92A-6E020993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233-0517-4C49-A622-B5862476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970-30A2-42B0-ADFB-30ADA376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A3E-A543-4ADB-8AD6-5811A352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4E3-90B4-4130-B1B4-97FEF392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CD8-7B4D-4ADC-8526-A5B380A6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B28-85CB-4F21-A5FF-8EA3C641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01D-3914-4919-8353-102EB63E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C5D-4A78-4531-94AE-CDCACEF2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544-D149-428A-82FA-F6EA2A6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70FB0-038A-4543-9670-8025B62FCB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