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911554"/>
        <c:axId val="80702507"/>
      </c:barChart>
      <c:catAx>
        <c:axId val="799115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02507"/>
        <c:crosses val="autoZero"/>
        <c:auto val="1"/>
        <c:lblAlgn val="ctr"/>
        <c:lblOffset val="100"/>
        <c:noMultiLvlLbl val="0"/>
      </c:catAx>
      <c:valAx>
        <c:axId val="807025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115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E571-7CDE-47B9-89D0-2F9BB903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28D-816C-4100-8B19-DCD1564E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BB0A-181D-4FD8-AC33-27E364F7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86AE-D293-4D35-89E1-4275AB2A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727A-890A-4D5A-839F-1CA7EE52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E539-EA5F-439A-ABC0-D7DDEAB9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D4E3-7F49-4D8C-8B17-964596B7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8488-75E4-4335-AEFC-33CCEA9C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76D1-3A30-4FF3-B489-32C6E886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85C-1962-4712-AAFD-82E6AB25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6078-14DD-4C7E-9B27-2B791101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E199-4600-496C-9381-268709FE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3F4D1-D845-42CB-9327-F829B9A57C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