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588561"/>
        <c:axId val="37816447"/>
      </c:barChart>
      <c:catAx>
        <c:axId val="685885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816447"/>
        <c:crosses val="autoZero"/>
        <c:auto val="1"/>
        <c:lblAlgn val="ctr"/>
        <c:lblOffset val="100"/>
        <c:noMultiLvlLbl val="0"/>
      </c:catAx>
      <c:valAx>
        <c:axId val="378164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5885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7252-A082-44FC-9AC5-EE18D9EB9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C738-CC7A-43B3-9B1E-1D25FB89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54D5-7332-4FD6-8A58-1055206BB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3B9E-E22D-478E-AF92-F6B9C6184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478E-55DE-4F10-8893-938BF681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A6E0-0DE7-4502-BE76-89ECBB2A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1155-C434-401C-B0FE-5FD05C3B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C63E-2389-4C88-ACB5-631BEA17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4876-5AA0-4A71-B33D-59AFB204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5E00-2E33-46C9-89F9-06374E16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CF17-4DDA-44EE-B54B-3EBD59E7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53A3-A07B-4C78-B4C6-6F1527DB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5386C1-C4EB-4F44-9AC5-45F37C651C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