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02806"/>
        <c:axId val="18754249"/>
      </c:barChart>
      <c:catAx>
        <c:axId val="46702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54249"/>
        <c:crosses val="autoZero"/>
        <c:auto val="1"/>
        <c:lblAlgn val="ctr"/>
        <c:lblOffset val="100"/>
        <c:noMultiLvlLbl val="0"/>
      </c:catAx>
      <c:valAx>
        <c:axId val="18754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02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D31-514A-4276-8C2A-8F8C7E30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6D1-3893-4DC5-924D-E3667387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1A1-205C-4599-93C3-2372C5B5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A09-B0E2-4B92-9672-5AC3D409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A502-6E3D-4A37-9A4A-547D17E8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778-F5E3-4C8A-AD16-E56AA064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84F-9D96-4EB9-A9A8-4D6EAB4E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C94-E2F2-4E81-850D-746FE5D2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998-AC70-4EFE-AC71-E7F7F9BB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2F1-3A55-4CBD-B70B-33C1FB0C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F3F-EB25-481B-9B92-378AA664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298-8376-48D0-85AB-D47A7FFC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D0FED-31D9-4616-8C95-BFE0FEA7C2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