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1630598"/>
        <c:axId val="57904292"/>
      </c:barChart>
      <c:catAx>
        <c:axId val="2163059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904292"/>
        <c:crosses val="autoZero"/>
        <c:auto val="1"/>
        <c:lblAlgn val="ctr"/>
        <c:lblOffset val="100"/>
        <c:noMultiLvlLbl val="0"/>
      </c:catAx>
      <c:valAx>
        <c:axId val="5790429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63059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E812-C08C-429B-9F35-FBE48971E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C2F5-B736-4A95-9FFC-FAAFB909D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4784-7C5B-42C4-89E8-0DCBAE443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453F-829C-4ECB-8D89-6FE10046C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A486-AA95-4B40-8352-FFD673DE0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CE06-018F-4445-99B9-38628703A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1D73-02F6-4C7C-ACEB-271C36FC5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C5BD-70DC-4516-87C0-D1229D8FB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F979-0B49-441D-8048-FCDEF53A5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9C70-6388-42E8-A868-6DE5E9E8F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0E30-D368-4113-B135-0E6302C51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1067-B700-4800-A8F3-29566A3A0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BCA1C2-7CCC-4595-8950-7791D239F61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