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91780"/>
        <c:axId val="16811971"/>
      </c:barChart>
      <c:catAx>
        <c:axId val="85191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11971"/>
        <c:crosses val="autoZero"/>
        <c:auto val="1"/>
        <c:lblAlgn val="ctr"/>
        <c:lblOffset val="100"/>
        <c:noMultiLvlLbl val="0"/>
      </c:catAx>
      <c:valAx>
        <c:axId val="16811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1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A69-F9D4-462B-AC41-32D402E6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962-B9AC-451F-B2CB-3D7FABB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D0E-614E-45CA-A925-4F4CFDA0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972-281B-49A5-8BBC-0BBD6F51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13EA-F6CF-4353-8259-E0D477B5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BFD-984D-480A-A490-17DA7EE0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915-F7CF-46EE-AD40-84FC5D48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821-F704-43B6-B081-58349BCE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9A2-D73B-4F06-88A8-AADBC30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CF5-4A93-4750-9AA5-F9A7675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E03-C678-44B6-B448-2196CA9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76B-DACF-4E8F-B1B0-DF8057B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811BC-5B58-4F7C-8294-6BA33FF9E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