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8726431"/>
        <c:axId val="2351138"/>
      </c:barChart>
      <c:catAx>
        <c:axId val="8872643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51138"/>
        <c:crosses val="autoZero"/>
        <c:auto val="1"/>
        <c:lblAlgn val="ctr"/>
        <c:lblOffset val="100"/>
        <c:noMultiLvlLbl val="0"/>
      </c:catAx>
      <c:valAx>
        <c:axId val="235113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72643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1580-827D-4CBB-B0BB-11BE82F8F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75CC-E903-4DB1-988D-F552D8A5F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9D2A-914A-4714-B2FB-05F0714C6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C8F6-1D23-40AA-93BB-F3CFD272E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CB6D-3858-4BA5-8FAF-F35F81B88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A9B0-ACEE-4F82-AFB9-E2BE6CB10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A039-F437-4EFF-9461-EA9EB6E38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3D8E-D4B9-4FEB-8E55-90CEEAE1C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1B9A-D108-426D-B53F-F3ED7BA3D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8D2A-C7BB-42EA-B87B-902A913E7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D9B6-E6D0-4C51-ADD0-22F26ECB3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7D5C-8993-41C1-856D-85D07885F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D6EA79-070B-44A4-AA2A-BEF946DF8E0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