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77774"/>
        <c:axId val="73005790"/>
      </c:barChart>
      <c:catAx>
        <c:axId val="95277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5790"/>
        <c:crosses val="autoZero"/>
        <c:auto val="1"/>
        <c:lblAlgn val="ctr"/>
        <c:lblOffset val="100"/>
        <c:noMultiLvlLbl val="0"/>
      </c:catAx>
      <c:valAx>
        <c:axId val="73005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77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D59-E239-4779-9E72-C2529A83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349-2AAC-4345-BC3F-26A81E8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D4B-2CBA-42DF-B26F-C035835B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C84-393F-45C2-8ABD-27D6E440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0DD-3C66-4F39-B10D-A44030D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AB6-1F3E-4E51-B613-6F485844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E1C-9E5C-4CE6-80BE-304EC93C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D52-A848-42D8-B21E-0E484DF5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F8B-6AFE-498E-A45A-29DF983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5C5-3300-4881-9CC3-AF7BB7F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70B-969B-4E5D-B285-B185B0B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DF7-CB96-4A19-A277-E342C92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E4C4A-E1E3-42C2-BB13-311D8565C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