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732010"/>
        <c:axId val="43010731"/>
      </c:barChart>
      <c:catAx>
        <c:axId val="507320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10731"/>
        <c:crosses val="autoZero"/>
        <c:auto val="1"/>
        <c:lblAlgn val="ctr"/>
        <c:lblOffset val="100"/>
        <c:noMultiLvlLbl val="0"/>
      </c:catAx>
      <c:valAx>
        <c:axId val="43010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320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48DC-7B0D-43DB-BBE1-CF001434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E8AE-6F02-4C66-AD30-AA89D69D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ADDC-5E36-4232-B7D0-BB3A77FC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C7A4-CD33-494B-89DE-BD950A76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6C6-3EF1-4788-B8F5-53F58FEB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A2CC-98FD-4E48-B0AC-722208F9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995-DAEA-4827-9EAD-3A22FBBF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F498-9FDB-4B2A-9851-E1B94EA6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58F9-D4F3-49B8-88B2-686083CF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F09-584D-42B4-95DE-1F15A2CF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D25-0E48-4555-822C-68910C39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A4DE-56A8-49F0-9BF3-ABE3DAE2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00E9D-27D0-4E0F-BF2C-C8E92EE8B8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