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65502"/>
        <c:axId val="56355952"/>
      </c:barChart>
      <c:catAx>
        <c:axId val="16565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55952"/>
        <c:crosses val="autoZero"/>
        <c:auto val="1"/>
        <c:lblAlgn val="ctr"/>
        <c:lblOffset val="100"/>
        <c:noMultiLvlLbl val="0"/>
      </c:catAx>
      <c:valAx>
        <c:axId val="56355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65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B6D-6772-464D-826A-3D96ADF1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070-E5BE-42AA-B2C2-573C5691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756-F505-4B59-A69A-43A4AE03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1367-E26F-4496-BA0D-1C4986A9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79B-0F3C-470E-9607-7CBD610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F98-D3F0-437D-B307-F704ED12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BE1-008C-48A0-8D42-66DE672D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28C-5F3D-4A00-BC1C-D0C618A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78F-6BFB-43F3-85FC-30E7B06F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8C0-DB6F-4741-AF4B-C3A3A17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B1E-AEDA-41D0-97A3-C41F3EC4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29B-A992-4505-B85A-A10A9976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B8203-B419-4A8F-8D9C-1F6ABFC376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