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58838"/>
        <c:axId val="29557682"/>
      </c:barChart>
      <c:catAx>
        <c:axId val="90158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57682"/>
        <c:crosses val="autoZero"/>
        <c:auto val="1"/>
        <c:lblAlgn val="ctr"/>
        <c:lblOffset val="100"/>
        <c:noMultiLvlLbl val="0"/>
      </c:catAx>
      <c:valAx>
        <c:axId val="29557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58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32A-E05F-4D09-BEE2-12ABF119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34C-2F44-4D2C-AF7A-9BA38A19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F28-0D74-4502-A10E-ED0A2531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7EE-C15C-4D48-9505-F8B80B8B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39B-D68A-4B0A-A784-3DA62D25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04E-6CA0-4E09-A16C-0DA5B337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86D-C753-4A6B-B9D4-2D83F611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010-D571-4EE9-A271-095BEE7F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768-9D95-4345-B043-2603D2B2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7F1-ADDB-4C5C-9C72-EBF228B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C14-2B11-4EEF-8128-FAA02EC7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4A7-0E83-410A-8480-A0283B41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809DF-B75C-4851-9D45-783C5C8805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