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00444"/>
        <c:axId val="83871665"/>
      </c:barChart>
      <c:catAx>
        <c:axId val="86900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71665"/>
        <c:crosses val="autoZero"/>
        <c:auto val="1"/>
        <c:lblAlgn val="ctr"/>
        <c:lblOffset val="100"/>
        <c:noMultiLvlLbl val="0"/>
      </c:catAx>
      <c:valAx>
        <c:axId val="83871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00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CC5-D9D8-4620-B5D8-EDDF07EA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399-DD21-4734-87BA-D00AD507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A09-F37B-4620-BEAB-12F32E7E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CAB-DC72-46FC-829E-60301091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D9C-4833-4563-8E03-15B1DCD7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4CD-4DAD-4222-B17B-BE32FC8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41D-7886-4141-8D6A-5D80B5C8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294-D2F5-426F-B5F5-B520EF79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D5D-18F4-4013-BB17-044254F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474-2341-4DD0-AF99-53908426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C29-2ACF-497F-9D7A-5742AC1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A0A-CE4B-40FA-ACBB-0EAAB0EC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A294B-C28D-4E76-85F9-62307BAEFA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