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88794"/>
        <c:axId val="56023624"/>
      </c:barChart>
      <c:catAx>
        <c:axId val="75788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23624"/>
        <c:crosses val="autoZero"/>
        <c:auto val="1"/>
        <c:lblAlgn val="ctr"/>
        <c:lblOffset val="100"/>
        <c:noMultiLvlLbl val="0"/>
      </c:catAx>
      <c:valAx>
        <c:axId val="56023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88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666-4142-48BF-84E4-ED7648EE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EC5-8349-48CE-8505-7C1ECA4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54F-EFD5-48B8-9AD3-7F21138D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0F7-159B-43A1-A69A-E54DB4DC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C2D-EF4F-4FE3-8843-B170F56E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C78-5C7A-4F2E-84F9-949ED261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4FD-5647-40AA-908A-0DB3A75D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BD0-3EB7-4939-9409-C6F35534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229-2D52-4E41-A455-AAA74DD9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B6A-6F5E-4809-B64C-AFD10909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838-EDC8-4D44-933B-755B14A5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557-34F3-49F3-8596-0E6CF6A9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7484B-26AD-4D4D-A15F-31C948CD4F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