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909645"/>
        <c:axId val="7877899"/>
      </c:barChart>
      <c:catAx>
        <c:axId val="649096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7899"/>
        <c:crosses val="autoZero"/>
        <c:auto val="1"/>
        <c:lblAlgn val="ctr"/>
        <c:lblOffset val="100"/>
        <c:noMultiLvlLbl val="0"/>
      </c:catAx>
      <c:valAx>
        <c:axId val="78778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096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DA69-568F-43CB-8D73-C0A7B799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201E-379C-4076-82FB-8B75EEC5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F068-B5BC-4A13-B88D-13C12C21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EB3-57B4-44DF-80AC-89DEB0B3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22A5-0229-4D88-83C9-76512A6C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260-8FDC-4A2A-8D15-F49934A9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0413-ABB7-42B1-A838-DBFAE0C3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5E4-14BB-4494-871A-8BBE0B65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B961-3804-4099-BF33-75082146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ED3-FCB7-4BBB-8245-C50ED305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14C-D6A8-451A-8D6E-0E1847A7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053-BE40-461E-B01D-B388F149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44580-1F27-4989-B862-C85C788C1A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