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90693"/>
        <c:axId val="1894302"/>
      </c:barChart>
      <c:catAx>
        <c:axId val="14990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4302"/>
        <c:crosses val="autoZero"/>
        <c:auto val="1"/>
        <c:lblAlgn val="ctr"/>
        <c:lblOffset val="100"/>
        <c:noMultiLvlLbl val="0"/>
      </c:catAx>
      <c:valAx>
        <c:axId val="1894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90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A55-F442-4A5F-BC9E-60C8C6C5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5AA-63C9-46BF-B350-5FD10F6F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161-5CF0-44E3-AEEE-CC15B9FB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123-816E-493B-B427-6BF36C68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5E8-31A1-4ABD-85D7-ECC9A023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60E-CA58-4C3B-BE63-6CA92FBF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F50-87C9-4EB4-9B81-93B86E30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866-7C4D-420D-9D8B-F0AF3048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68F-0098-43ED-A5FB-DAA04FBF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3D5-4B44-4103-87DA-19CCA5AD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146-C102-4840-898B-2774844B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1C6-C92B-4B8D-931B-D9C1AA0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E3450-D579-4445-BE54-E7151158D3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