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82016"/>
        <c:axId val="35845040"/>
      </c:barChart>
      <c:catAx>
        <c:axId val="31682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45040"/>
        <c:crosses val="autoZero"/>
        <c:auto val="1"/>
        <c:lblAlgn val="ctr"/>
        <c:lblOffset val="100"/>
        <c:noMultiLvlLbl val="0"/>
      </c:catAx>
      <c:valAx>
        <c:axId val="35845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82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825-A44A-4853-8D6D-8058B4D2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D0D-DC38-4F45-A5BD-5F42ED0E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50F-5169-4B31-AEF6-B2E17596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495-CB89-460A-A091-125EC11D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6A2-68EC-4A6C-850F-C165BB07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696-F32F-4589-A2BC-78BB794B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A24-C316-40E8-A223-3D538DF8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974-ACCB-47EC-AB9B-BBD22767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5C2-4C8D-45CF-B56B-CBD8ACF5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A2B-864A-4BD7-80DB-4C8EF7B8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F82-DD3F-4747-9289-76CF556F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C97-71CE-4204-867B-AF16AD9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68CAD-90A9-4568-9918-735EF1B2BB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