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32998"/>
        <c:axId val="38246673"/>
      </c:barChart>
      <c:catAx>
        <c:axId val="22632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6673"/>
        <c:crosses val="autoZero"/>
        <c:auto val="1"/>
        <c:lblAlgn val="ctr"/>
        <c:lblOffset val="100"/>
        <c:noMultiLvlLbl val="0"/>
      </c:catAx>
      <c:valAx>
        <c:axId val="38246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32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B5D-6D5D-4FE6-802F-E86EC36E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42F-298F-4589-BBEE-83AC771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1F7-EA98-453E-A19E-7E6BDA39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F47-EB5C-4A41-9FFA-35D5CE6D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F48-ACAB-4A35-883E-59CE836F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831-6DF4-4CE6-B1C2-309B1C5E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FF4-20EC-4590-A421-76F2799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151-3E91-4FA0-A610-3738CAF2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29F-D40F-4547-926F-38F53B7B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93F-8124-46AA-BD05-E8FC494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1EE-FF01-4512-81E1-21A5F32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238-9326-4E9B-BF35-9589BD3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6D16-E52A-4AA2-822F-0095953ADA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