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8850"/>
        <c:axId val="73210465"/>
      </c:barChart>
      <c:catAx>
        <c:axId val="3708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10465"/>
        <c:crosses val="autoZero"/>
        <c:auto val="1"/>
        <c:lblAlgn val="ctr"/>
        <c:lblOffset val="100"/>
        <c:noMultiLvlLbl val="0"/>
      </c:catAx>
      <c:valAx>
        <c:axId val="73210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8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47D-6851-45AA-87A2-BEB1207E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FF8-5A1D-4DBC-97EE-935C2F9F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E28-E01E-4779-B479-5953D54A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70B-665C-4D6D-8E79-0151532D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411-3AF2-4FCA-9F85-CEEF4BF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3B2-DECC-49F2-8A19-B501CF7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131-10D9-4B7C-84DC-6A3FB5DD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59B-4011-4578-BDC6-81670924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782-7B05-49BF-BEBF-AC020CE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7F4-86FE-4ED4-A11D-0537A34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5E8-E095-4BEF-8D3D-0C061BF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5A3-132D-45EB-865C-392B16E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01FCC-4EB8-4B55-B385-1D2ACFE2B3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