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32583"/>
        <c:axId val="70246134"/>
      </c:barChart>
      <c:catAx>
        <c:axId val="25832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46134"/>
        <c:crosses val="autoZero"/>
        <c:auto val="1"/>
        <c:lblAlgn val="ctr"/>
        <c:lblOffset val="100"/>
        <c:noMultiLvlLbl val="0"/>
      </c:catAx>
      <c:valAx>
        <c:axId val="70246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32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224-66A4-44E9-9071-66C9ED63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36B-A1C5-4E7A-8DD3-930FCBB7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D35-7F45-4D63-A556-3AF99356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5F7-E1C9-43A0-B81B-F68B9077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247-A9A1-4862-8DFB-843A9E74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1AEB-D18A-4256-A07F-BC31A2DE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179A-FFC8-417C-BD71-8CE38B3C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4FE-0421-4B78-89D6-9CD77360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415-B4FC-4CBA-9F0C-0E081D0A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ED7-0350-42A1-AEE2-686154B9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6E1-3063-4102-B023-F0798256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9C3-86F6-4557-A240-782FF3E5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F947C-A0DC-4F3A-9CB3-36E94E7B6D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