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390878"/>
        <c:axId val="31016304"/>
      </c:barChart>
      <c:catAx>
        <c:axId val="84390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16304"/>
        <c:crosses val="autoZero"/>
        <c:auto val="1"/>
        <c:lblAlgn val="ctr"/>
        <c:lblOffset val="100"/>
        <c:noMultiLvlLbl val="0"/>
      </c:catAx>
      <c:valAx>
        <c:axId val="3101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90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4AA-1489-4652-AF08-7F51A1E8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180-9F71-43AA-A47D-F732E287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19A4-F94D-42BC-80E7-08890499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330-71C4-4121-9501-CE14D41E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258-9507-4073-A456-AE32CFBA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4BF-9CC7-45D1-8CCD-FD842C6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6AC-8F06-4774-952C-351A5C88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475-245E-4F15-AAC4-1ABCE06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8B2-D855-429E-963F-3D675039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FC7-D8D9-451C-A6FB-1BAE1072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07D-97EE-4C01-9B85-8481776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6FA-6C8E-4321-B671-3792CB02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AD012-682F-4BEE-92E0-B6F9DD0C39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