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3199"/>
        <c:axId val="89171574"/>
      </c:barChart>
      <c:catAx>
        <c:axId val="5753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71574"/>
        <c:crosses val="autoZero"/>
        <c:auto val="1"/>
        <c:lblAlgn val="ctr"/>
        <c:lblOffset val="100"/>
        <c:noMultiLvlLbl val="0"/>
      </c:catAx>
      <c:valAx>
        <c:axId val="89171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3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191-779A-4B4B-9BC5-8D9F6D00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1DC-4E47-465E-B4D3-E9E8D575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876-9B7C-4AE6-B6BE-BECCA548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B55-0D91-4875-A13A-018843F9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CC2-3C84-4FBF-8A7B-474D2313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6EF-BA2E-436C-84C1-A953727B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0AD-878A-49CD-ADBD-66A631AD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ED9-8511-418E-9760-7A979686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A53-744F-4FC5-8485-2258F1B3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043-8BD4-4303-B1A5-9D27C1FA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5C2-30BD-43FC-94BB-E02E5C71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EBE-F5BC-42DD-B0D3-29781244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60753-AEF7-43D0-B7EA-3344616871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