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824084"/>
        <c:axId val="28076969"/>
      </c:barChart>
      <c:catAx>
        <c:axId val="868240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076969"/>
        <c:crosses val="autoZero"/>
        <c:auto val="1"/>
        <c:lblAlgn val="ctr"/>
        <c:lblOffset val="100"/>
        <c:noMultiLvlLbl val="0"/>
      </c:catAx>
      <c:valAx>
        <c:axId val="280769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8240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9A58-DF22-4A81-B761-E84A7A190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2748-48CA-4218-9DAC-CEB4F321B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FFF0-D7EE-4248-8711-6B58AC550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4D26-C269-47F9-8DD6-E39FBD1F2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BBA0-EA8F-4363-B9C9-53C913736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ED29-8D6E-4B0B-BEAB-B3C49F087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2CC3-CFA1-44CE-92D6-5A8162165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59D6-F230-437C-8D8C-D8BB0B173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B7ED-80B6-439A-A2DE-1C19529BA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BF56-7265-45A5-817F-95D2E8257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48A7-1BDF-4711-AA04-078E108F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8ECA-B2F2-4703-8370-1869315DF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C9D071-E19F-4296-991D-C40745F41E2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