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21606"/>
        <c:axId val="64144406"/>
      </c:barChart>
      <c:catAx>
        <c:axId val="97521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44406"/>
        <c:crosses val="autoZero"/>
        <c:auto val="1"/>
        <c:lblAlgn val="ctr"/>
        <c:lblOffset val="100"/>
        <c:noMultiLvlLbl val="0"/>
      </c:catAx>
      <c:valAx>
        <c:axId val="64144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21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316-7803-472C-8E22-B6E62EF0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162-D5A0-443C-B291-4277735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A4C-7107-47E6-8FF3-4438252E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6C1-983A-4351-A39B-EBFA38C3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F26-61BC-402A-AACB-E23DA9BE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19F-FD9C-4E32-9DAE-118E81C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5BD-DBAC-48B9-9CAE-11FA1CA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78D-B8A4-4632-96DF-BBC4CC1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D2F-3D51-49C9-BBE0-47BBB7F8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2F8-A922-480F-9441-784732D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CB7-FFCC-4C57-905F-95FAE5C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EB0-336E-46C5-B385-CE3AFCC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092FC-6DFE-49A7-94DE-331DCA77F2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