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5515"/>
        <c:axId val="75216662"/>
      </c:barChart>
      <c:catAx>
        <c:axId val="7865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16662"/>
        <c:crosses val="autoZero"/>
        <c:auto val="1"/>
        <c:lblAlgn val="ctr"/>
        <c:lblOffset val="100"/>
        <c:noMultiLvlLbl val="0"/>
      </c:catAx>
      <c:valAx>
        <c:axId val="75216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5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9EF-4D49-49C4-9964-BA8A7205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2C9-2669-4EC0-92B7-6AF27642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C1E-DEFB-4FB3-892E-7EE2304B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DC1-0794-4DBD-8201-0BCB25A3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9B6-6732-4858-9532-67823259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3DB-A115-499C-8E04-C7ADDF73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123-C6E1-4FBA-A8AF-A4BF4700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A97-1299-40C7-AAC3-99C91875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B3E-254A-4330-839A-89E5BE68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B18-D73E-47EC-B8A9-0162CA91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B29-C909-4574-AF4B-6BB7148E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11C-4A18-4A8E-8A84-8168707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8C7FE-7144-44E3-BF85-CCCFF7FED0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