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63516"/>
        <c:axId val="80564194"/>
      </c:barChart>
      <c:catAx>
        <c:axId val="90763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4194"/>
        <c:crosses val="autoZero"/>
        <c:auto val="1"/>
        <c:lblAlgn val="ctr"/>
        <c:lblOffset val="100"/>
        <c:noMultiLvlLbl val="0"/>
      </c:catAx>
      <c:valAx>
        <c:axId val="80564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3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2A1-6E9B-4475-903E-54200B75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6F3-6561-43D0-A505-B15276A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0A6-EC62-4838-8910-38BC9E23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2D4-1E8E-4A21-820B-03F42B89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B0D-ACEE-4828-AB9C-B8DBDB1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DA9-1350-4BF8-8E98-C0B0036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7DC-B5DB-4992-A109-7C766DEC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1D6-0609-42EF-BF01-5E80C2C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34F-2DA8-41C9-B2A0-9C5C3BEE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E18-A80D-43AF-87E2-A8C6A42A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023-8E58-491D-B0C3-E630D2E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DA5-D995-46F6-9491-0D2FB95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BE0E1-F52D-4809-9666-B39787CA93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