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54933"/>
        <c:axId val="85294118"/>
      </c:barChart>
      <c:catAx>
        <c:axId val="66154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4118"/>
        <c:crosses val="autoZero"/>
        <c:auto val="1"/>
        <c:lblAlgn val="ctr"/>
        <c:lblOffset val="100"/>
        <c:noMultiLvlLbl val="0"/>
      </c:catAx>
      <c:valAx>
        <c:axId val="85294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54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08D-567F-481F-992D-8EBF77F4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79A-0344-45BE-AA33-7329D6C7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515-D109-4B3E-9F17-CD573169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00E-B069-479F-AAEF-B762AD55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559-8BCB-4DC2-B7B5-E2C42E70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2F8-2EAE-4464-B2E9-A48C0D71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EFC-E22D-4FA0-BC0A-88767467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00D-8981-4F92-AD9A-DB761EB1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EFE-4011-469A-8945-10DBDB51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57E-19A6-4354-B077-8273E9FB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B9A-7681-482C-8533-0F971DEA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422-C214-43EE-B7FD-1F859ADD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12407-DC93-47EC-B760-418B45578B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