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52747"/>
        <c:axId val="74347184"/>
      </c:barChart>
      <c:catAx>
        <c:axId val="54352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7184"/>
        <c:crosses val="autoZero"/>
        <c:auto val="1"/>
        <c:lblAlgn val="ctr"/>
        <c:lblOffset val="100"/>
        <c:noMultiLvlLbl val="0"/>
      </c:catAx>
      <c:valAx>
        <c:axId val="74347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52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A52-B87F-4B7B-9F7B-688EFD59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40E-980F-455C-A897-FF5895E7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4ED-B3F8-421B-8F9B-F6AE026D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B70-590B-441A-AAB0-4897BDE6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9A2-34EC-4F10-9C59-740DB24E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8E1-FC35-4FBE-A041-A8543438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983-49EF-4162-9B7B-D4E8FE54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C6F-B3BA-43D3-8795-7D9FE257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333-12C0-432D-B716-D7D5F23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A07-57D8-476C-9070-7DA8EA9A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16F-65BC-43D7-8497-8AD4A20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A35-D47E-43EF-933C-0136FA84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9754E-7C75-40C5-B54F-50C9C2BDD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