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12857"/>
        <c:axId val="49560475"/>
      </c:barChart>
      <c:catAx>
        <c:axId val="956128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60475"/>
        <c:crosses val="autoZero"/>
        <c:auto val="1"/>
        <c:lblAlgn val="ctr"/>
        <c:lblOffset val="100"/>
        <c:noMultiLvlLbl val="0"/>
      </c:catAx>
      <c:valAx>
        <c:axId val="49560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128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967-E5DF-4C79-8DB6-79C10D6E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B40-8142-4EB0-9C50-073502BC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588-8F88-4ECE-995B-FEC3327A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917-AA3C-4468-B6CC-C5B9DE3A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DBA0-BD56-4103-B831-D341508C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526-76A8-47F6-AADB-92D5AAF0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7649-1229-40C0-B2F7-B9153C80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47C-87F1-4FEC-99CA-B67464C3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861-2A6C-4CDE-AB04-19B757E9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B647-C607-4CA3-AFDA-0D4D80F4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04E-DA5A-43F3-8291-CFFE80DD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95A-0266-45C8-8D9C-B2095438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C9180-7E9E-409E-8B29-298992CCDD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