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71801"/>
        <c:axId val="96319595"/>
      </c:barChart>
      <c:catAx>
        <c:axId val="64671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9595"/>
        <c:crosses val="autoZero"/>
        <c:auto val="1"/>
        <c:lblAlgn val="ctr"/>
        <c:lblOffset val="100"/>
        <c:noMultiLvlLbl val="0"/>
      </c:catAx>
      <c:valAx>
        <c:axId val="96319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71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680-0EBA-469B-B706-6B47238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262-868B-4990-85BB-7A33202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5A0-33E4-433E-9913-3FF8BD0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FC9-C9E6-4AA7-9817-2AF68B5D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329-99B0-4EBC-B83E-D3B5EFC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306-26F8-42B6-8A37-F867E9C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101-ED68-400D-8F11-A5DF3BE3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994-6FC8-446B-8AFA-10312FD1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014-28CF-471F-9C1A-8970337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243-0D50-4BE5-B854-5E024A4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CBB-C344-45E5-8576-1C926CD2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0A0-CF2B-4BC5-BB45-A18F97F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6D0CC-5C1F-473A-AF72-6E716E443C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