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12855"/>
        <c:axId val="77778274"/>
      </c:barChart>
      <c:catAx>
        <c:axId val="46012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78274"/>
        <c:crosses val="autoZero"/>
        <c:auto val="1"/>
        <c:lblAlgn val="ctr"/>
        <c:lblOffset val="100"/>
        <c:noMultiLvlLbl val="0"/>
      </c:catAx>
      <c:valAx>
        <c:axId val="77778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12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924-10F4-45CF-B075-4E4458B7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279-97B0-4C30-A5D0-1333A10A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56B-ADEB-40F7-9BD3-A616505B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697-B545-4B28-899D-4B2A8AEA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593-6CD5-4118-93A0-07BB2C87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0BC-76B2-497A-ACE5-64337506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2E2-8F68-44AD-8A1A-55BCFA3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E67-D40E-4461-A391-1C5795E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606-F962-42A5-A9D5-B56C056C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35E-74A8-4C10-9FAC-928156A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120-D7D4-4785-A87D-05F3B689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BC6-2DAA-4409-B5C9-7B69159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425F1-319C-47E0-BD6A-1654D3E8E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