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57501"/>
        <c:axId val="79133868"/>
      </c:barChart>
      <c:catAx>
        <c:axId val="62057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33868"/>
        <c:crosses val="autoZero"/>
        <c:auto val="1"/>
        <c:lblAlgn val="ctr"/>
        <c:lblOffset val="100"/>
        <c:noMultiLvlLbl val="0"/>
      </c:catAx>
      <c:valAx>
        <c:axId val="79133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57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CDB-4DC3-4137-A011-9ECCE01E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A91-D126-4E58-8FE9-637D9183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7D7-99D6-470E-BBE5-A6122027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80C-359E-4982-853D-097A00AF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AD4-A8D5-4A3E-A81A-19ECD290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B24-AA55-4115-9FCB-AE27A0DD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6EA-3783-4783-968C-02DE4F8B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BF0-2D26-4B58-B34C-EB1FEAF5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480-EAEC-4138-ADDC-DC5CCD37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883-B2A4-4657-B1E9-BEC65B3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BCF-927C-4B27-8913-82B7352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9AA-D21D-4FF0-B7EC-0990E55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A0448-2474-4818-84D0-AC4023982C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