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89816"/>
        <c:axId val="4410346"/>
      </c:barChart>
      <c:catAx>
        <c:axId val="23289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0346"/>
        <c:crosses val="autoZero"/>
        <c:auto val="1"/>
        <c:lblAlgn val="ctr"/>
        <c:lblOffset val="100"/>
        <c:noMultiLvlLbl val="0"/>
      </c:catAx>
      <c:valAx>
        <c:axId val="4410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89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3A2-87EC-4B98-AFE2-B952ACBD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3EE-918D-495A-A427-E70E29B9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6C9-B8D7-42C6-BDF6-D05312E3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433-4832-403D-A65C-F575A0DB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8A2-A5A1-46AA-A2EE-6AEB0964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EEA-1677-4A0D-9DDC-999CDB88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767-A695-4BBF-97C1-84DFA9D2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0E4-BA67-4D0E-B8EB-B0873CBF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894-9E53-4748-BE10-4D74ADD3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753-1085-41EE-8E30-A52041AD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F78-7DB6-425C-B709-B4546519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E82-8669-4E4A-9166-F79296A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6DC55-5BB4-4AC8-879E-2B79731E81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