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04365"/>
        <c:axId val="10733855"/>
      </c:barChart>
      <c:catAx>
        <c:axId val="69604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3855"/>
        <c:crosses val="autoZero"/>
        <c:auto val="1"/>
        <c:lblAlgn val="ctr"/>
        <c:lblOffset val="100"/>
        <c:noMultiLvlLbl val="0"/>
      </c:catAx>
      <c:valAx>
        <c:axId val="10733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04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FCC-5530-4641-A29B-28B274D7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5DE-56C3-43E7-A9FB-6A389740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9E8-84CD-48C7-9819-0F288003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DB0-9543-4452-B8A7-D524D08F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77C-4DB7-491B-ADCC-D2F56E8B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F29-9129-4489-BAB7-9AB6F380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848-F1B2-411B-AED2-C5E13075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44E-C071-49C5-9EFF-3FE966E9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A9D-640A-4241-B5BF-687A45BA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99D-59BF-4003-863B-87CD374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36D-76DD-4463-8BA1-73D4B40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417-19D5-4C66-8A07-FC9CA41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DEED2-FBF2-4F2B-A75C-9CE4EFA9B0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