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51299"/>
        <c:axId val="58954048"/>
      </c:barChart>
      <c:catAx>
        <c:axId val="51451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54048"/>
        <c:crosses val="autoZero"/>
        <c:auto val="1"/>
        <c:lblAlgn val="ctr"/>
        <c:lblOffset val="100"/>
        <c:noMultiLvlLbl val="0"/>
      </c:catAx>
      <c:valAx>
        <c:axId val="58954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51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640-805A-4528-95A1-1A69CDC6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EA3-5636-4085-8497-12904578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1A6-BE90-4424-A5C8-9199F9E5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344-0C71-4F9C-9327-935B3166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F15-7A13-4894-9BCE-4AF4597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1B3-7385-4A16-959A-0B3F9BA7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0CF-FBA5-409F-B968-F3AE5E0E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F03-3298-47A5-8009-50C468FB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737-AD67-42D8-A219-77506078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16D-D6A1-4873-93F1-1D7F9A4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A3E-F7BC-438A-A8E6-AA30ADC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BCF-B879-49EE-9AB1-FBE9E51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523CE-ADC0-45C0-9AE8-887BE4339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