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91436"/>
        <c:axId val="2446161"/>
      </c:barChart>
      <c:catAx>
        <c:axId val="50991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6161"/>
        <c:crosses val="autoZero"/>
        <c:auto val="1"/>
        <c:lblAlgn val="ctr"/>
        <c:lblOffset val="100"/>
        <c:noMultiLvlLbl val="0"/>
      </c:catAx>
      <c:valAx>
        <c:axId val="2446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91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A84-3F96-4152-B04E-850A45F0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247-F43C-4C78-83EB-97EC803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ABB-D419-409B-BACE-1C880A0D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0F5-78C2-477B-9D6C-FB4A8F08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F8A-E786-4A9B-84ED-CE4F6FB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95B-6C2F-4319-B060-B3065FF5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773-567E-4F52-AE7E-94F0CDD9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D3C-855C-4C7F-916F-D9E1B36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6B0-B48E-4086-8AC7-D07E86B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C6B-C5F5-4297-AA2B-5525E3C4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4B7-039C-4C8D-8EC0-1F1EE32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AC8-0911-41D1-A896-46932B6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8038A-8B5A-4A36-8E5F-E248BF242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