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13016"/>
        <c:axId val="73466864"/>
      </c:barChart>
      <c:catAx>
        <c:axId val="35513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66864"/>
        <c:crosses val="autoZero"/>
        <c:auto val="1"/>
        <c:lblAlgn val="ctr"/>
        <c:lblOffset val="100"/>
        <c:noMultiLvlLbl val="0"/>
      </c:catAx>
      <c:valAx>
        <c:axId val="73466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13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5A2-FDF1-46F1-80B4-2EBCD8C3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087-DA2C-42BB-8480-3A99E9EC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D48-6BF1-456E-A88D-377ECA12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C15-4475-4622-B64A-7DBCCDC5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4BD-C712-46B4-83F4-83B07BEB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554-9F9B-44F5-8116-8C4EA3CC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81E-7848-4F6C-8767-1D86CF03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28C-12E6-40D2-9BA3-AE3E3772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BD9-CE50-4B70-B61E-4131E025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74A-E8ED-4CD2-B6DF-7781227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F13-B4A6-4460-8157-C9B3CB9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783-5262-4F0B-98A5-EFE1086D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49399-6C34-440D-8739-B0E9CD2F36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