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86710"/>
        <c:axId val="26209508"/>
      </c:barChart>
      <c:catAx>
        <c:axId val="96686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9508"/>
        <c:crosses val="autoZero"/>
        <c:auto val="1"/>
        <c:lblAlgn val="ctr"/>
        <c:lblOffset val="100"/>
        <c:noMultiLvlLbl val="0"/>
      </c:catAx>
      <c:valAx>
        <c:axId val="26209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6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7E5-AE42-4A2B-BD6B-9AF449F0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730-3F5E-4342-982F-5416718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8E1-E1F3-44FB-ACDB-20C66EA8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168-CDFE-446B-8FCD-55A8D38B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0D7-8225-4970-99F2-CE53C2B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CFD-9CF4-452F-B2FD-F609CE6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B6A-3DF7-4518-AFA7-D9078CD7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203-3640-4F27-8975-06BE973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402-D5F3-4C1B-B933-BA4B23F1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F2E-A3CA-4FB3-8711-E6DECAA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B2B-57E0-4D06-A7C6-0B4C8B6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8EA-7948-45F0-BD07-53F8BE8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63445-1D7F-4306-B24A-A599E731B5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