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165481"/>
        <c:axId val="41581357"/>
      </c:barChart>
      <c:catAx>
        <c:axId val="961654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81357"/>
        <c:crosses val="autoZero"/>
        <c:auto val="1"/>
        <c:lblAlgn val="ctr"/>
        <c:lblOffset val="100"/>
        <c:noMultiLvlLbl val="0"/>
      </c:catAx>
      <c:valAx>
        <c:axId val="415813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654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6754-3BEB-4A9B-8AB2-2B369C59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B7DE-DD52-4964-A556-6EE98AB3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C7C4-731B-4ADA-B217-7567566F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4611-B113-467F-A6C1-34A1D9EB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15C5-B076-4BD4-9ACE-459466C2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BD45-59ED-4573-B4DC-3269E58B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CA75-32CD-4E06-954B-ED202666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1821-E4BF-4268-B6E5-FFB68176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572C-916A-4EE8-9AD8-7A9ECA89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6A4-F77C-4830-B21A-AB96FCFD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EED0-8609-4751-9ACA-586B561E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67FB-26D4-46AB-A063-23AE220E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601D0-F2CE-4C1D-9CE5-EB35A5EC35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