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663130"/>
        <c:axId val="23345756"/>
      </c:barChart>
      <c:catAx>
        <c:axId val="976631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45756"/>
        <c:crosses val="autoZero"/>
        <c:auto val="1"/>
        <c:lblAlgn val="ctr"/>
        <c:lblOffset val="100"/>
        <c:noMultiLvlLbl val="0"/>
      </c:catAx>
      <c:valAx>
        <c:axId val="233457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631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0C37-C28D-4A0A-BD82-8894D647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71E9-879E-4BBE-BF8C-501460D0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EFD1-7D56-4292-8D73-D40A865DE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D66E-2480-4391-854A-911953106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8AC3-3C3E-4611-A13A-E51BF066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9168-27B4-4499-BE78-AEDD2B2D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D5F8-B81E-4AC3-A7EB-84F215C3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2A3A-260B-435E-B742-5CB103FC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4070-2C34-49F5-AB08-BEE4B3B9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5AFB-FD0D-4507-97D5-E06A66D1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2DDC-0B89-44BD-8222-A42518C6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DCD4-7887-411C-BAA0-02312F65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FBE55-5B7F-43B6-A766-30DDB621C9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