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6649"/>
        <c:axId val="7440064"/>
      </c:barChart>
      <c:catAx>
        <c:axId val="5136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0064"/>
        <c:crosses val="autoZero"/>
        <c:auto val="1"/>
        <c:lblAlgn val="ctr"/>
        <c:lblOffset val="100"/>
        <c:noMultiLvlLbl val="0"/>
      </c:catAx>
      <c:valAx>
        <c:axId val="7440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6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C42-92BC-49F4-8B0C-399D692C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A85-875D-42EF-826C-2014B622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734-80DC-463C-9A89-A49E17F7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BAA-5815-40DA-A747-A0A049B2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40C-5C9C-4A9B-B272-8D068EA8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0CD-7CE0-4A9F-8B6F-F57F63AB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6E1-5C21-4452-A96F-34629ADF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52B-5D88-47A7-B1AB-E7D8752A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5FA-9226-4299-8728-50A8F734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11B-2B28-4BE3-9F0E-C1B844D9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7B2-FAC3-4F4B-AEC3-95478CA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16A-CF65-413D-A08E-5193EDE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250F5-A7CC-4694-9F6C-6086F26AFF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