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35501"/>
        <c:axId val="87886789"/>
      </c:barChart>
      <c:catAx>
        <c:axId val="23735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86789"/>
        <c:crosses val="autoZero"/>
        <c:auto val="1"/>
        <c:lblAlgn val="ctr"/>
        <c:lblOffset val="100"/>
        <c:noMultiLvlLbl val="0"/>
      </c:catAx>
      <c:valAx>
        <c:axId val="87886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35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0671-8CE1-484B-8927-BC1F7E0E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945-FF23-4FEC-BFA3-E8DFB161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DB1-6959-4683-9C5B-A3589FC6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C37-ECAD-4D38-8634-8F4B9B4B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B9E-AE8A-47A6-9E90-B5C25997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4CD-72F1-482F-BE6D-31EBF0BA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7EB-6F7F-4DCD-8F38-BEC5F0C3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A0E-B062-4931-8EC1-C4D356FA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1C38-BFF5-4C90-B439-70E3E3A1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2E0-D4B0-4DDE-8889-8ACB2BD8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2B9-74A8-407B-B034-85428C05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8D7-45CA-442A-9B1A-9E2EE9F8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0BF83-05BF-48BB-B706-2EA3D152F5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