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4492"/>
        <c:axId val="73143038"/>
      </c:barChart>
      <c:catAx>
        <c:axId val="6154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43038"/>
        <c:crosses val="autoZero"/>
        <c:auto val="1"/>
        <c:lblAlgn val="ctr"/>
        <c:lblOffset val="100"/>
        <c:noMultiLvlLbl val="0"/>
      </c:catAx>
      <c:valAx>
        <c:axId val="7314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4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DB0-AAEA-4143-83A6-C8CBDD93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4F3-278F-4EC3-ADF7-92113DE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9DA-DB42-4833-88A3-19FF11D4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D29-67FD-4613-8A01-584ECA4D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235-FB9B-49A5-B199-B90BC2B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3D9-ABE3-4220-9DF9-2C9CB01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A9B-5DDF-42F3-BE3A-25DE5F8D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135-56F2-4179-A703-00DD3D4C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473-3FDE-4D80-A156-1593F62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3A3-735B-4D8B-BEDC-13EB704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A9-CEA6-44E9-BDB9-236F844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53C-CE74-4BA9-8D12-8F84874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7926D-D265-49A8-8EE5-56C8DDF8F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